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EB8-75BC-4B99-B239-B030B4E8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171-2DED-4857-8EDD-3A9302E4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51D-2418-4988-95D7-37873892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D95-72DF-4A84-A59E-376EBC79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EA7A-AD4B-4F33-9417-01D9436F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59DE-DDBB-4B2C-B74B-C5215E7C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22A2-ACDB-4879-BF82-244182E0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B4F1-9787-443E-8C70-9F17FFE7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4441-6D9E-4924-8360-2E348C7A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D9DC-43BE-449C-9856-82D0D78B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EFA9-307B-4720-83D5-D1A9CD55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18F-4F85-44FC-8C9B-568D7935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F6D2-E6EC-4227-944F-EEC20775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5014-55D5-4592-B1ED-93707D93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0684-C1DA-471C-BA02-9B5548C8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0447-104D-4FF8-968B-6F7FFF71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F86F-8159-4B96-8FB1-3DA65045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60220-5051-4F87-9C7D-37187BFC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250D8-66DA-4BCC-BC82-B95B765B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CC93D-5B3C-4FD7-A23E-578EFB05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014D4-8D75-44DA-8E31-8B25027A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B7DCC-015A-49B0-994A-8A5323E9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719-BB25-42B3-B5C2-2E6B4FD0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3333E-D1D7-4378-B7D8-D02840A6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0C13A-4560-4683-A9E3-E9A75BCA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C5601-6E7F-4819-A027-5B51501C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0C354-7028-4E89-A906-05141CE7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F92D0-C8B9-4D09-B71D-C89C53B1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4DBB0-F9E7-4D37-9C6B-B9956ED9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6B3EA-E4B0-4A66-8B79-C94753BA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4DDC-6203-4CC2-ACDA-B93756CB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6756B-207B-4701-B49E-BD93D26C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216D5-95DD-4065-A8EE-4125D210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BF7-9FF1-4D5B-B2D3-25ECC325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E5D87-7703-485E-9AAF-AE6034F7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2D0E8-F923-43D4-8D59-189CA16E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868C9-6206-4B5A-A990-FB5BE28E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24643-B491-4024-A342-68CD8EF4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BFDCB-F37D-4DE7-807F-706AF6AB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5E20E-13AF-4AFB-812D-1FB47EAE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8F9B0-F8BB-4B69-B2B3-E102ECD3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E13BE-56E8-4799-B7A9-7C32583D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9C065-DC4C-4F73-9F5A-B5E60F47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9A805-21C3-4D75-911A-B04EF99C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EA0-2361-4D78-9F27-D0036398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8C532-CD7A-4045-A624-28A89339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486AA9-9A70-48BF-A74A-3B3315D7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625B5-9DCD-4563-A36D-7F1F7611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09191-961C-4AE7-91BA-5079A6ED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1996D-43E7-4A06-AA3D-C6369B58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F2815-633A-4F40-82E6-CD72BCC3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8D803-4A49-444D-8EDA-30FDF204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909135-CDE7-4014-ACF4-25DF3D5A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CFBA9-C320-49B5-905E-37396B2C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2CEF6-18B8-4869-8FBB-C0B4D625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8F9-AC9D-46B0-979A-2DF80E80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1E88BC-F9DD-47B2-815A-8ECF557B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82233-E628-452A-A731-3D52228E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FF378-7CCE-414A-BD93-DC76D782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7E207-636C-40AF-8D29-31924AB9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021F19-5DF4-4A4F-A277-014A1D1B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582D98-2620-4CCF-BC85-489BF1F5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D0A6F-B66A-4434-9787-EF6BD93C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C4C4E-D129-4EFA-ACE9-F8237B23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686EB-ADDA-43AF-840B-9B44895B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70CB00-8E18-40C0-9121-5CC40A4D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0E8-8B4D-47B2-BAD1-8B58A81A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DB0EA-4D55-4CF9-8692-211601CF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EB6376-1A34-4401-9063-96D704E7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987B2-1516-4348-B5B4-904721D1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9F98E-8300-4E3D-B18E-A2379004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E580CF-9A45-4FBE-A695-C023ACC1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3C8E4C-B44B-4AD6-8810-920C5FC0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300DC9-327C-4C32-966B-EF4D1349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8D77D7-18D8-4F83-A540-92AA2D58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A8D3E0-84A6-4C5D-86C9-96409764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0BB67B-4061-4DE2-9A84-47C652A0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A6F-2BE0-434C-9649-D0EFBD75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00394-49A1-472A-AA8C-B747F2D7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6ADF4-222B-4ECF-9B6E-B5F9BE9D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39073-31EE-4238-A92E-70DFF628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15ABA-7886-4D15-9EBC-0C1C18C5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68C8F-9089-472F-897C-71796417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FDC-3EC9-4E1F-9224-182A8B35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B5ED-5524-4E1D-8C45-08001DB82E21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4CB0-5A20-476D-84CC-1CF79B831A45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47F1-571E-4502-B455-235D7268F6F4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E302-CE9B-4374-8AD7-7222FC66003B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F0F3-288E-425B-A195-1418E67DB72E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A0DE-0DB8-49AC-BF10-538DC9539338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FFE9-20AC-4A78-A2C5-D75AECD5F7B2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63280" y="5157360"/>
            <a:ext cx="7380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575f6d"/>
                </a:solidFill>
                <a:latin typeface="Century Schoolbook"/>
              </a:rPr>
              <a:t>LESSON 17:  EVOLUTION REVIE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08000" y="4437000"/>
            <a:ext cx="7236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404280"/>
            <a:ext cx="80755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Jean-Baptist Lamark and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amark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animals came from primitive worms and changed into other animals through inheritance of acquired characteristic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rganism’s behaviour affected their body’s features:  the more you used it, the more it would grow and change in a lifetime and then be passed on to the next gener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 had no evidence, and for example big muscles are not passed on to childr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6840" y="189000"/>
            <a:ext cx="746748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831 HMS Beagle to South America (Galapagos) and the south Pacifi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w a large variety of species, each adapted to it’s own environment (ex tortoises, finch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nt 20 years working on his theory of evolution by natural s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575f6d"/>
                </a:solidFill>
                <a:latin typeface="Century Schoolbook"/>
              </a:rPr>
              <a:t>REVIEW OF THE THEORY OF EV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8920" y="764640"/>
            <a:ext cx="8496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D. E.A.R.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Differences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(variation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ll species are different from one another because of the characteristics they are born wit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Environmental Pressure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ything which acts to limit their ability to survive…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overpopulation, predators, environmental changes…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Adaptation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characteristic  (already present) which helps it to survive the environmental pressure.  IT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DOES NOT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EVELOP NEW CHARACTERISTICS </a:t>
            </a: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IN RESPONSE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THE ENVIRONMENTAL PRESSUR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Reproduction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uccessful adaptations are passed on from one generation to another because the specie survives to reproduce that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 adaptation will most likely be inherited by the next genera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8000" y="0"/>
            <a:ext cx="871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ere are four main principles to the theory of natural selection: variation,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verproduction, adaptation, and descent with modificatio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Variation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Differences in the genetic material of the organisms,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hether inherited from a parent or resulting from a genetic mutatio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Overproduction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ny offspring raises the chance that some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ill survive, it also results in competition between offspring for resourc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: More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ccessful individuals with more successful variations are “naturally selected” to live longer and to produce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re offspring that share those adaptations for their environmen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Descent with modificatio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: More individuals will have the adaptation in every following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eneration, as long as the environmental conditions continue to remain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neficial for that adaptati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333360"/>
            <a:ext cx="8218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is all leads back to variation again and with better variations of the adaptations having increasingly more likelihood to survive in the environment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e can find three basic pieces of evidence for evolution for use in the classroom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A)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 Morpholog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omologous and analogous structur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B)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 DN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ommon to all living organisms and passed from our ancestor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C)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Fossil recor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elp to show that different species lived at different times. (Not all created at the same time by God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3:07:00Z</dcterms:created>
  <dc:creator>Laura</dc:creator>
  <dc:description/>
  <dc:language>en-US</dc:language>
  <cp:lastModifiedBy>USUARIO</cp:lastModifiedBy>
  <dcterms:modified xsi:type="dcterms:W3CDTF">2012-11-12T19:05:23Z</dcterms:modified>
  <cp:revision>6</cp:revision>
  <dc:subject/>
  <dc:title>Review of the Theory of Evolution</dc:title>
</cp:coreProperties>
</file>